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C02-7C69-4C1A-B510-9A032C4C97E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F72-F4FA-4A0E-B48E-089C1575C805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D7F-5BC4-4C40-840C-33EB63EC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A6B-C479-423E-A57B-FEFB6F93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B75-8F91-42BB-821F-15A6FA54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43B-A393-45A6-929D-A7E41E0A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AAA9-CE8D-4852-A1F7-079E3C4C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5794-5037-4351-8D32-D97C57C9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E615-9448-453F-9DC2-BA06314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E066-007A-470A-A58B-A2FD3538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DB6C-1894-4FF1-A871-6F8814D7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6633-1C4D-4420-B814-3FE6042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2089-5503-41C3-87EA-B59FE147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2AC-F8EF-43BF-82DB-6CAAA7E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A578-3815-482C-9256-D909C7D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D12-0989-4EBF-AA6B-7F725117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3F85-AE11-48AF-A576-F74DB07D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CE16-523E-47C0-A675-90C2820A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5F63-FF16-46CD-8A0E-75310FCB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991-1E7D-4333-B756-54DAE863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8C9-E07F-4094-A0CE-47C2CBA1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6E8-43DE-423C-AFFE-981B67D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49F-366C-48F5-BE62-538E2740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CDC-C1EC-4986-8FDC-D28E53D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7B2-1294-4579-8D31-935631A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1AA-D99F-47DE-BF3B-D9F0A6A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3254-E7CA-4256-9D06-40BE80F54EF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8BC-BBC6-4588-AC77-7326C0C4D74D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Image result for de broglie atomic theory"/>
          <p:cNvPicPr/>
          <p:nvPr/>
        </p:nvPicPr>
        <p:blipFill>
          <a:blip r:embed="rId1"/>
          <a:stretch/>
        </p:blipFill>
        <p:spPr>
          <a:xfrm>
            <a:off x="-27000" y="-206280"/>
            <a:ext cx="9631440" cy="72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mage result for de broglie atomic theory"/>
          <p:cNvPicPr/>
          <p:nvPr/>
        </p:nvPicPr>
        <p:blipFill>
          <a:blip r:embed="rId1"/>
          <a:stretch/>
        </p:blipFill>
        <p:spPr>
          <a:xfrm>
            <a:off x="28440" y="0"/>
            <a:ext cx="9007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68360" y="260280"/>
            <a:ext cx="76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said that electrons act like waves.  Waves resonate if the frequency is just right for the  container (musical instru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bital is the container for the electron and only certain orbitals will work for electrons of a certain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velength of a particl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h/p plank’s constant divided by its moment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derived this relationship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=hf, the energy of a photon and p=E/c =h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omentum of a photon so that the wave-particle duality that Einstein applied to photons also applied to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 (Heisenberg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 (Schrödinge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395280" y="414360"/>
            <a:ext cx="7983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3:32:22Z</dcterms:modified>
  <cp:revision>52</cp:revision>
  <dc:subject/>
  <dc:title>Sir Joseph John Thompson</dc:title>
</cp:coreProperties>
</file>